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1BFF-4A41-47F7-8EBA-EF1916ED9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422928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DCF1-879D-4CB0-A22A-1ADD8E78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268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9D6A-CF44-4F34-832A-F2A6496A0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384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592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384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592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373C-1540-4442-B6EB-D864AA389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1C41-27A7-4A17-B4AD-5EAF2A560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12DA-F07B-4564-96C9-73E01522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984C-4187-41EC-B3EC-EEC0D602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C7D6-0D20-4101-82F3-F19E98DB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0A95-62E4-464D-8119-1DE0569F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52120" y="12189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7BF2-3BB0-491E-B012-8D59338D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5C53-568E-47C8-A8D9-51AA9E5C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53A3-BCDF-4E31-80E4-5000CF0D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42268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BBA7-2032-435B-947E-649058A7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9E52-81AC-42C8-AD98-0BF43733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52120" y="422928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76BA-3EFA-4E35-BF07-6A55B0AA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42268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7A20-D047-488C-906D-1DE57ABDE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7384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95920" y="243792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5212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17384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95920" y="4229280"/>
            <a:ext cx="230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FB1A-7087-4680-993F-945563583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ACC2-FF66-404C-8274-A7FFAF28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3C68-FE4D-4052-BEB1-6A3ABA70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B21F-772D-434C-9AF2-4BDDC770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12189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5CB5-C203-4F30-96A4-05A92022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B429-8997-4078-8E98-1A7ED6F4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2680" y="422928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56C6-3BA2-4B62-9609-FB55351C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2680" y="2437920"/>
            <a:ext cx="3495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4229280"/>
            <a:ext cx="7162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3CC8-E67E-4873-978D-ADECDD56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38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02E7-4DE2-4C70-A969-C1D18FF53F24}" type="slidenum"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5238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9A93-273C-4D1C-8A49-7CEFBBD804BF}" type="slidenum"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The Autism Inclusion Collaboration Model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Autism Inclusion Collaboration Mod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reated to aid the general ed teacher instructing autistic studen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 componen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nvironmental and curricular suppo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ttitudinal and social suppo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ordinated team commitme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ome-school collabor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Priming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 parent, paraprofessional, or teacher previews a lesson with the stude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s can occur the day before the lesson or just prior to i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ost effective when built into the student’s routin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hould last 10-15 minutes in a relaxed environme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Prompting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 prompt is cue for a student to perform a designated behavio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ompts can be physical, verbal, or non-verba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oving a student’s hand to the penci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esturing to wri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riting or verbally asking the student a ques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Environmental and Curricular Suppor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upport personn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mall class siz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ofessional developmen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dequate teacher plan tim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Attitudinal and Social Suppor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ollaboration, understanding, and support must come from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dministrato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eachers (special and general ed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autistic stude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student’s pee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69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oordinated Team Commitmen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ifferent learning environments must have similar structur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eachers need adequate support to ensure the needs of every student are being me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Home-School Collaboratio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ducators and parents need to work togethe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kills learned at school need to be reinforced at home and in the communit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Techniques for Educator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Visual Support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ome Bas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imin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omptin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Visual Support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utistic students benefit from visual explanations because it allows for greater processing tim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rite down schedules, routines, assignments, and examples for increased comprehens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Home Bas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me base is a place where a student may go to calm himself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41360" indent="-44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re are many reasons to send a student to home base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853200" indent="-41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view the day’s eve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853200" indent="-41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scape stress in the classroo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853200" indent="-41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event a meltdow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853200" indent="-41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gain control if a tantrum has occurr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41360" indent="-44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home base is typically a resource roo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Technolog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tudents with all kinds of disabilities can benefit from technolog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Video-based intervention is becoming increasing popular for autistic learne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ach self-help and on-task skill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videos demonstrate students completing appropriate task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3T20:47:01Z</dcterms:created>
  <dc:creator>Amanda Quail</dc:creator>
  <dc:description/>
  <dc:language>en-US</dc:language>
  <cp:lastModifiedBy>Amanda Quail</cp:lastModifiedBy>
  <dcterms:modified xsi:type="dcterms:W3CDTF">2010-06-13T20:50:21Z</dcterms:modified>
  <cp:revision>2</cp:revision>
  <dc:subject/>
  <dc:title>The Autism Inclusion Collaboration Model</dc:title>
</cp:coreProperties>
</file>